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9A6F-71B3-437C-86E3-7614AB6C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755C-AC63-41AF-AFA3-56BECBDA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07EA-BA85-47AD-A09B-988E9238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F070-358B-422C-8EA6-65261D64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8C81-9692-4111-A53E-65CECC45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A814-359C-47C1-8BA2-7B5A506F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C14C-7065-47B2-A9F8-CA66C3C6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C612-A1C0-4EFF-88E6-6AD29432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E21D-C7EA-4C6D-9B78-2955234E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AD0B-4A03-4514-87D1-0D5100B8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F7CD-B1FF-48E3-BF83-0634DE1E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1D01-2D7F-453D-9639-3ED98B2A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7AFC-AC52-47CA-B2E7-B6FC97D6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5664-B8DD-4D44-BDCA-5C20EE62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E093-D9E4-45D2-9A33-39D9D0F7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C33F-B3FF-478C-AD28-64E96AB6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36B6-6243-438D-965F-2B5B00DE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EA31-8DA5-43D4-8396-14545EA4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B966-8F62-48C9-856A-2E58E6AD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D5BC-83AD-4250-94E6-7943F86E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CEE5-B11C-4D98-B85B-682E3DA3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F683-2B22-46AC-98DE-E2E55996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D1D2-E1CA-4CA4-939D-91FA27C3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FC84-74D5-430F-B382-6BBEDF31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F6B0-5220-4FF2-9B35-770D51581F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18C1-EF4B-40EF-BA62-7E5C450320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964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Тема: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Значение газа и перспективы развития газовой отрасли в Казахстане.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835280" y="3024360"/>
          <a:ext cx="5460840" cy="35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024360"/>
                    <a:ext cx="5460840" cy="35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ef6"/>
                </a:solidFill>
                <a:latin typeface="Arial"/>
              </a:rPr>
              <a:t>Действующие перерабатывающие мощности по производству газ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71640" y="1828800"/>
            <a:ext cx="771192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стоящее время в республике действуют три газоперерабатывающих завода (ГПЗ) общей проектной мощностью переработки 6,85 млрд. 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газа в год (Табл. 2). К 2010 году предполагается общее увеличение мощностей переработки газа до уровня 28 млрд. куб.м в год за счет реконструкций и нового строительства объектов переработки га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3357720"/>
          <a:ext cx="8069400" cy="3209760"/>
        </p:xfrm>
        <a:graphic>
          <a:graphicData uri="http://schemas.openxmlformats.org/drawingml/2006/table">
            <a:tbl>
              <a:tblPr/>
              <a:tblGrid>
                <a:gridCol w="1811160"/>
                <a:gridCol w="1043280"/>
                <a:gridCol w="1042920"/>
                <a:gridCol w="1042920"/>
                <a:gridCol w="1042920"/>
                <a:gridCol w="1042920"/>
                <a:gridCol w="1043280"/>
              </a:tblGrid>
              <a:tr h="461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ГП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ная мощ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ически выработано в 2002 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жидаемая мощность после реконструк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прир. газу млн.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сжиж. газу млн. 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р. газа млн.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жиж. газа млн. 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прир. газу млн.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сжиж. газу млн. 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кий ГПЗ,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адный Казахс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сматривается технологическая модернизация без расширения мощности переработ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нгизский ГПЗ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тырау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ан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ан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64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ан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нажолский ГПЗ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юби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7" name=""/>
          <p:cNvSpPr/>
          <p:nvPr/>
        </p:nvSpPr>
        <p:spPr>
          <a:xfrm>
            <a:off x="611280" y="2997360"/>
            <a:ext cx="7632720" cy="287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fdef6"/>
                </a:solidFill>
                <a:latin typeface="Arial"/>
              </a:rPr>
              <a:t>Таблица 2: Характеристика действующих газоперерабатывающих заводов Р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намика производства и потребления сжиженного газа с учетом прогнозных показателей до 2010 года, тыс. тонн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65120" y="1600200"/>
          <a:ext cx="821376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600200"/>
                    <a:ext cx="821376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Транспортировка газ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798984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ранспортировка природного газа осуществляется по системе магистральных газопроводов, которые проходят по территории восьми областей Казахста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щая протяженность магистральных газопроводов: около 10 тыс. км.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4 году общий объем транспортировки газа по магистральным трубопроводам составил более 110 млрд. м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Arial"/>
              </a:rPr>
              <a:t>³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ерспективы: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Увеличение объемов международного транзита и рационального использования внутренних ресурсов газа за счет развития мощностей по транспортировке и переработке газ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ближайшие годы планируется построить семь новых магистральных трубопроводов, в том числе, для экспорта газа из недр казахстанского шельфа Каспийского мор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ерспективы развития газовой отрасли в Казахстан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В ближайшие годы планируется достижение следующих целей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Обеспечение безаварийного и бесперебойного снабжения населения и промышленных предприятий природным газом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Достижение энергетической независимости страны по поставкам электроэнергии, природного и сжиженного газа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Развитие транзитных мощностей газотранспортных магистралей республики для обеспечения возрастающих объемов транзита природного газа и более эффективное использование имеющихся активов трубопроводной системы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Обеспечение максимальной утилизации попутно добываемого газа на месторождениях и создание возможностей для дальнейшего наращивания мощностей по добыче нефти и газового конденсата с обеспечением необходимых экологических требований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Увеличение экспортного потенциала страны по поставкам природного и сжиженного газа, а также сопутствующих компонентов добываемого газа и продуктов глубокой переработки газа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Увеличение налоговых поступлений в бюджет республики (в настоящее время налоговые поступления от нефтегазового сектора составляют около 40%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Увеличение занятости населения и обеспечение газовой отрасли квалифицированным кадровым персоналом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Выполнил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: </a:t>
            </a:r>
            <a:r>
              <a:rPr b="0" lang="ru-RU" sz="3600" spc="-1" strike="noStrike">
                <a:solidFill>
                  <a:srgbClr val="dcdce8"/>
                </a:solidFill>
                <a:latin typeface="Arial"/>
              </a:rPr>
              <a:t>Абдрахманов Бауржан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пасибо за внимание !!!!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</a:t>
            </a:r>
            <a:br>
              <a:rPr sz="4400"/>
            </a:b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аз- источник энергии и экспортный тов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ъем добычи и основные месторождения газа в Казахст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анспортировка га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спективы развития газовой отрасли в Казахстан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Природный газ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родный газ является смесью углеводородов, состоящей главным образом из представителей метанового ряда и содержащей небольшие добавки других газов, таких, как азот, двуокись углерода, сероводород и иногда гелий. Обычно основным в природном газе является метан, однако иногда имеются значительные примеси этана и, в меньшей степени, более тяжелых углеводородов. В природе встречаются газы, почти целиком состоящие из двуокиси углерода, однако такие газы не обладают свойством горюче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личают два типа природных горючих газов – сухие и влажн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ухие газ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состоят в основном из метана и иногда содержат также этан и пропан, однако они не содержат более тяжелых углеводородов, которые могут конденсироваться при сжат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лажные горючие газ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содержат различные количества природного газолина, пропана и бутана, которые можно извлечь посредством сжатия или экстрагир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Области применения природного газ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152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з используется в производственных и бытовых цел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быту газ используется для отопления жилых домов, приготовление пищи, заправки т/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оизводственных целях газ используется в различных технологических процессах (в доменных печах, ТЭС, и т.д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обое значение имеет использование природного газа и сопутствующих элементов добываемого газ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электроэнергетике (в развитых странах до 35% электроэнергетических ресурсов вырабатывается с использованием природного газа; в Казахстане планируется к 2010 году увеличить долю газа в потребляемом топливе с 13,4% до уровня 21%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ефтехимической промышленности (газ, добываемый попутно с нефтью, представляет собой ценное химическое сырье для производства, к примеру, каучука, аммиака, этилового спирта и других синтетических продуктов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оизводстве полиэтиленовых труб и других изделий из пластмасс (так, в тенгизском газе содержание этана, необходимого для получения этанола и полиэтилена, содержится до 11%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оизводстве элементарной серы и минеральных азотных удобрений (сера и азот являются сопутствующими элементами добываемого газ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кспортно-ориентированность добычи газа в Казахстане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83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аз как стратегический товар для Казахстана является экспортно-ориентированны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дукция нефтегазового сектора экспортируется сегодня в десятки стран по всему Евразийскому континенту и стабильно остается основной статьей казахстанского экспорта: ее доля в общем объеме экспорта страны в настоящее время составила более 40%. Крупнейшими импортерами казахстанской нефти, газа и продуктов переработки нефти являются Россия, Великобритания, Украина, Швейцария и Итал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ерспективы: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ращивание экспортного потенциала от реализации природного и сжиженного газа, а также продуктов их перерабо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атегия развития Республики Казахстан до 2030 года содержит четко выраженный энергетический уклон. В ней говорится о необходимости "быстрого увеличения добычи и экспорта нефти и газа с целью получить доходы, которые будут способствовать устойчивому экономическому росту и улучшению жизни народа"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захстан планирует в ближайшие годы стать третьим по объему экспорта газа поставщиком в бывшем ССС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к, по окончанию строительства газоперерабатывающего завода в Оренбурге, Казахстан будет способен экспортировать около 30 млрд. м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³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риродного газа в го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 2010 году экспортный потенциал может возрасти на сумму около 110,6 млрд. тенг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ходя из заявления министра энергетики и минеральных ресурсов Казахстана В. Школьника к 2015 году планируется добыть 40 млрд. м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³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, с возможным увеличением экспортных поставок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24000" y="404640"/>
            <a:ext cx="8496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Запасы газа в Казахстан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5120" y="1628640"/>
            <a:ext cx="413388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74"/>
              </a:spcBef>
              <a:buSzPct val="2195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По последним оценкам международных экспертов 37,6%  доказанных мировых запасов природного газа (147,5 трлн. куб. м.) сосредоточено на территории бывшего Советского Союза. При этом Казахстан по разведанным запасам и прогнозным ресурсам природного газа находится в числе 4-х ведущих стран СНГ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SzPct val="2195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Объемы разведанных запасов природного газа в Казахстане составляют 1,8 трлн. куб. м. Однако на основание обновленных данных и Государственного баланса запасов полезных ископаемых по состоянию на 1 января 2002 года с учетом оцененных запасов газа по месторождениям казахстанского сектора Каспийского моря, суммарные запасы составляют около 3,3 трлн. куб. м. При этом перспективные и прогнозные ресурсы газа оцениваются в 6,0 – 8,0  трлн. куб. м., что связано в основном с освоением ресурсов Каспийского моря (рис. 1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643280" y="1484280"/>
          <a:ext cx="3990960" cy="42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484280"/>
                    <a:ext cx="39909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4859280" y="4508640"/>
            <a:ext cx="36036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,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92720" y="4365720"/>
            <a:ext cx="3095640" cy="35856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статочные запасы на суш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92720" y="4797360"/>
            <a:ext cx="331164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ценочные запасы на Каспийском шельф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219640" y="5229360"/>
            <a:ext cx="3168720" cy="35856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огноз суммарных ресур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59280" y="4869000"/>
            <a:ext cx="36036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59280" y="5300640"/>
            <a:ext cx="360360" cy="216000"/>
          </a:xfrm>
          <a:prstGeom prst="rect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Месторождения газ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стоящее время по всем категориям месторождений зарегистрировано около 130 месторождений с разрабатываемыми и предварительно оцененными запасами газа, из них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1 газовы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 газоконденсатны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3 нефтегазоконденсатны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1- нефтегазовые и прочие с малыми содержаниями га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этом, в разработке находятся 44 месторождения, содержащие более 80% извлекаемых запасов углеводородных газ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авляющая часть месторождений находится на западе страны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азовые месторождения в Кызылординской, Жамбылской и Южно-Казахстанской областях имеют при сравнительно небольших запасах газа большое локальное значение для газификации местных территор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0,4% всех запасов свободного газа сосредоточено на месторождении Карачагана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324000" y="260280"/>
          <a:ext cx="8616960" cy="58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616960" cy="58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быча природного газа в Казахстане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В последние годы отмечен значительный рост добычи газа в Казахстане. Если до 2000 года объемы добычи не превышали 10 млрд. куб. м газа в год, то в 2004 г. в стране было добыто 20,5 млрд. куб. м газ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Внутреннее потребление составляет около 5 млрд. куб.м ежегодно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50920" y="4076640"/>
          <a:ext cx="8497800" cy="2265480"/>
        </p:xfrm>
        <a:graphic>
          <a:graphicData uri="http://schemas.openxmlformats.org/drawingml/2006/table">
            <a:tbl>
              <a:tblPr/>
              <a:tblGrid>
                <a:gridCol w="1914120"/>
                <a:gridCol w="732600"/>
                <a:gridCol w="729720"/>
                <a:gridCol w="732600"/>
                <a:gridCol w="731160"/>
                <a:gridCol w="732600"/>
                <a:gridCol w="729720"/>
                <a:gridCol w="732600"/>
                <a:gridCol w="731520"/>
                <a:gridCol w="7311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, млрд. м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душу населения, млрд. м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"/>
          <p:cNvSpPr/>
          <p:nvPr/>
        </p:nvSpPr>
        <p:spPr>
          <a:xfrm>
            <a:off x="468360" y="3645000"/>
            <a:ext cx="7488360" cy="2887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аблица 1: Объемы добычи естественного газа в Казахст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16:44:12Z</dcterms:created>
  <dc:creator>BaurZHAN</dc:creator>
  <dc:description/>
  <dc:language>en-US</dc:language>
  <cp:lastModifiedBy>BaurZHAN</cp:lastModifiedBy>
  <dcterms:modified xsi:type="dcterms:W3CDTF">2005-12-12T19:24:55Z</dcterms:modified>
  <cp:revision>5</cp:revision>
  <dc:subject/>
  <dc:title>Тема: Значение газа и перспективы развития газовой отрасли в Казахстане.</dc:title>
</cp:coreProperties>
</file>