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34A-06D0-4A4F-BA33-BE5DD157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894-49FE-453B-8FC4-FB969C9E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836-2DB2-4EAF-8A57-43B9D4BF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5BC-E1D5-46B8-8CE4-A714A837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FF9-7C73-4E55-A907-0F888E1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C18-91B6-4C72-B899-9191401D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D91-8997-4A96-BE4A-1F2E9F8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D4D-7BB7-489A-9CA3-58B8992A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7C8-CDFA-43B0-A956-7FB0AE14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8D4-7DC6-491E-8F90-43AD3024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B00-2670-441F-98F7-79A1F757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C4C-2379-4140-AD2A-E448F734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AB4A-5A12-443A-B9C3-884641862C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7742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урсовая работа  по теме: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«Социально-экономические тенденции развития Японии»</a:t>
            </a:r>
            <a:br>
              <a:rPr sz="48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полнила студентка 1 курса 12 группы ТД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одышева М.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500720" cy="4392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189000"/>
            <a:ext cx="4572000" cy="345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643280" y="3760920"/>
            <a:ext cx="4500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 Narrow"/>
              </a:rPr>
              <a:t>Тенденции социального развития стра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Японии начала снижаться доля молодых и увеличиваться доля пожилых и старых возрастов (более 65 лет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ьная угроза депопуля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ало постепенного снижения уровня безработицы в стра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благосостояния граждан, связанный с повышением зарплаты и практическим отсутствием роста це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больше расходов государства идет на здравоохран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"/>
                            </p:stCondLst>
                            <p:childTnLst>
                              <p:par>
                                <p:cTn id="2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400"/>
                            </p:stCondLst>
                            <p:childTnLst>
                              <p:par>
                                <p:cTn id="2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4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4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400"/>
                            </p:stCondLst>
                            <p:childTnLst>
                              <p:par>
                                <p:cTn id="3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5040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Mistral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Географическое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л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ритория 377 668 кв.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ит из ок. 4000 остро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е крупные острова – Хонсю, Кюсю, Сикоку и Хоккайд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хипелаги Японский и Рюкю образуют островную дугу длиной 3,5 тыс. 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ет только морские границы, протяженность береговой линии 30 тыс. 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мывается водами Тихого океана, от материка отделена Охотским, Японским и Восточно-Китайским мор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ижайшие страны: Республика Корея, КНДР, Россия, Кита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" autoRev="1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250" autoRev="1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250" autoRev="1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6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1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600"/>
                            </p:stCondLst>
                            <p:childTnLst>
                              <p:par>
                                <p:cTn id="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10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00"/>
                            </p:stCondLst>
                            <p:childTnLst>
                              <p:par>
                                <p:cTn id="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50" autoRev="1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" dur="250" autoRev="1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1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istral"/>
              </a:rPr>
              <a:t>Ресурс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701720"/>
          <a:ext cx="9144000" cy="51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1720"/>
                    <a:ext cx="914400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-1584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84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Отраслевая структура ВВ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512720"/>
            <a:ext cx="9144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5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оварный состав внешней торговли Япо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sp>
        <p:nvSpPr>
          <p:cNvPr id="58" name=""/>
          <p:cNvSpPr/>
          <p:nvPr/>
        </p:nvSpPr>
        <p:spPr>
          <a:xfrm>
            <a:off x="-264960" y="113832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64960" y="1138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252360" y="2286000"/>
          <a:ext cx="9926280" cy="4572000"/>
        </p:xfrm>
        <a:graphic>
          <a:graphicData uri="http://schemas.openxmlformats.org/drawingml/2006/table">
            <a:tbl>
              <a:tblPr/>
              <a:tblGrid>
                <a:gridCol w="216000"/>
                <a:gridCol w="971028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-82440" y="1147680"/>
          <a:ext cx="9144000" cy="4552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1557360"/>
          <a:ext cx="9124920" cy="465732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46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79280" y="1413000"/>
          <a:ext cx="8785440" cy="5445000"/>
        </p:xfrm>
        <a:graphic>
          <a:graphicData uri="http://schemas.openxmlformats.org/drawingml/2006/table">
            <a:tbl>
              <a:tblPr/>
              <a:tblGrid>
                <a:gridCol w="4749840"/>
                <a:gridCol w="1346400"/>
                <a:gridCol w="1344600"/>
                <a:gridCol w="1344600"/>
              </a:tblGrid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воль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ые полуфабр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ое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ие товары кратковременного 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ие товары длительного 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воль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ые полуфабрик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ое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ие товары кратковременного 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ские товары длительного 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00"/>
                </a:solidFill>
                <a:latin typeface="Arial Narrow"/>
              </a:rPr>
              <a:t>Тенденции экономического развития Япо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ольно продолжительный застой в экономической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в доле ВВП доходов от непроизводственной сфе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нос производства за пределы страны, чаще всего в развивающиеся стра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иливается транснационализация крупнейших компаний Япо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орт готовой промышленной продукции высоких технолог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я сырья, ввозимого в страну, имеет плавную тенденцию к снижен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я альтернативных источников энергии невелика, но имеет устойчивую тенденцию к рос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200"/>
                            </p:stCondLst>
                            <p:childTnLst>
                              <p:par>
                                <p:cTn id="1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200"/>
                            </p:stCondLst>
                            <p:childTnLst>
                              <p:par>
                                <p:cTn id="1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200"/>
                            </p:stCondLst>
                            <p:childTnLst>
                              <p:par>
                                <p:cTn id="17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99"/>
                </a:solidFill>
                <a:latin typeface="Mistral"/>
              </a:rPr>
              <a:t>Насел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500720" cy="501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00720" y="1844640"/>
            <a:ext cx="4643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"/>
                            </p:stCondLst>
                            <p:childTnLst>
                              <p:par>
                                <p:cTn id="1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9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VER_0</cp:lastModifiedBy>
  <dcterms:modified xsi:type="dcterms:W3CDTF">2006-04-25T15:25:53Z</dcterms:modified>
  <cp:revision>16</cp:revision>
  <dc:subject/>
  <dc:title>PowerPoint Presentation</dc:title>
</cp:coreProperties>
</file>