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CA5-5C13-4869-B15C-2C68B46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ECB-F1E5-4352-B2BA-E0A330D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9FB-E207-4C4B-A2B0-A5645326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C5C-11B5-4016-9E43-0C570225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CC1-25B7-4A0F-B173-89381824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8FEF-D482-477D-9AA9-C897343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678-ACCB-4166-827D-631A801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78EA-F77A-4D0A-A1B5-A4CDFEFF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75E-E88B-451B-B2A9-1B80BFB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B520-229E-4765-9DE2-1D88FE4F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9263-2A58-425B-B945-C4C21B1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B6E-6E54-41B6-AF77-1E560A81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9F7E-CF65-42AB-9C28-F052C51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5C3-8D54-4A7C-BBDA-1AAAAE0F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5081-D670-49E9-8FB0-7BC9EAC6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7E0A-E42C-4F37-9E53-D942B86B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36F-F2B9-4904-B3D2-DB871182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18B8-479E-434A-ADA8-2A930013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B68B-6139-4A55-9796-49600CF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C2D7-D93E-455D-BD14-F9D42D4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8C42-4C22-4B96-8636-725BEF9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DD84-73B0-4C51-B637-8A952D06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8EC-308A-4050-8591-F8921154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CF61-24B2-4619-9C4B-2E34FCAF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5976-C19C-4D3B-B79E-4234F8D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FA28-2EA9-49AA-BFA6-DEED6C32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7713-C7CD-4B62-8B5B-F0A8A6ED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DC14-D4F8-467D-9693-7FEE1CD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0387-2DD2-4000-B72D-304D3B96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CA26-4771-420A-96C6-E7BD35F8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53D1-C837-42CA-A774-0CD249CD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4B58-52A7-47FB-B58A-CAF9FDF4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67E1-29A2-4C1C-BCBA-8BEA62CF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D32-9354-428F-95B8-D830A381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555B4-0097-48A2-A1D5-B30A932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AC47E-D2D4-47D7-8426-F239FD0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D0F1-CF1B-44A9-86CB-9317B53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B019-91FE-48B2-A15D-E39C444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4F5B-3C23-4545-B770-F64BE404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B5CC-300C-4332-A98F-43EAC26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26213-2C31-4AD0-8B22-B4BDACE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6D5D-DE51-4A39-9303-D03EE931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0ECB1-1E0F-4316-A9B4-0550C5E4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6652-1B24-483C-9877-A99CE66A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A99-BCFA-4989-9F44-9A5D8ED2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389C-5C8F-480C-8F57-47951073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93EC-3255-4F4B-8320-E37BD21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AB8E-2F8A-469D-9A4F-B33AE466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8CC4-A518-4A8E-867B-6B1B0FC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1F6C9-681F-4B9A-A368-40CE387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79C8-BAAC-4107-9AAE-AC55911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806B-B85A-4325-9C03-72E1316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31D7-BCFC-4FE1-B973-D903E0E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61E3-9DA4-485E-A797-CAB52BB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1DE9-74A1-4F84-ACD8-6F91DF06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D87-D500-4102-807E-945CF734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D4AED-FD7A-4BFA-AB53-C5A99189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45453-4000-4A9E-9D2A-F0AE7515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6401C-EBD3-48F0-B508-2E9628F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E0066-7033-4A50-8905-B3EFAA6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B9E5-21BF-44A5-B194-6740D96B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3F8B-0200-4B58-8C5F-B407F11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4FEAB-4F3F-4230-9129-CD53735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ECFAB-03D3-4CFA-B4E0-49F1DEB0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4CFD0-F2AC-4B0A-9517-5617464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C8AA-130B-4388-94AE-8F18527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A8F-81A1-487E-B8A3-C5266EA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C7FC9-1124-404E-AE3F-FE5CE06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26EB-CC71-4D91-8523-DF52561D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75D1-6907-497E-B929-A16F1885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DE6D-0FFA-4F94-8532-E3ABAC71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032A6-D0DD-4704-9A7F-C32054B2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A8761-ABBE-43B1-A505-6ABEDB53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96D1C-E49E-49FD-8ACB-8DBCB48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79BEF-732E-4221-AC5B-18A0C972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819A0-2F4F-4AA1-9EEF-B719620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95B73-D716-40AE-894A-C5A1C9B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D4B-F5BC-4896-BD77-85A631D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9D0D-D631-4FCA-8AD5-E44E601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7FC0-8C77-4035-9C11-F611F13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2C7C5-52E8-4843-9849-70848CC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DFB5-2BFC-4645-AC91-829DA831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01B99-94BE-4045-9DC3-A4D66926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C82C5-E0D8-4E22-BF1E-DF4F7691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2F3F-5097-4515-90D5-259BE4E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E752E-F7D7-4B26-8F6D-30D7947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588F-6532-49B1-ADBB-967AFFD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38F1D-E031-4208-AEEB-2E81CD1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E4D-C99C-4791-9978-CF454B7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64D1-6A4D-4CFD-BED9-D12B434C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F4B7A-AAF3-4D04-A29A-1A05C32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52C62-1ADA-4313-BF8F-5723281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37CC-6C33-4584-BDD9-360351E1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0FF9-8488-41C7-AB10-0E144D7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DC34-08B8-453E-9D00-4043F8B7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BFA5-903A-4637-BE38-121E1648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AEFE-6AAC-4435-87E6-C65136CBA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EF98-E193-4DFC-8A87-39721615D1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04E7-5671-41C4-9EBB-F9A930AE05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6F94-7923-42BB-9439-0126F75C19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8F8-6F8A-4D12-B758-D288CE3F43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6EBD-81EA-4F3B-812A-B953974790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6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3FA-F426-4470-B045-60B9DAAC06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0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4AD0-7930-49A2-8BD6-EA54E4ECD5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екула представляет собой конфигурацию атомов, совершающих малые колебания около определенных положении равновесия, соответствующих минимуму потенциальной энергии их взаимодействия. Последняя имеет при этом в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2898720" y="3692520"/>
                <a:ext cx="31672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, 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ОЛ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73600" y="586080"/>
            <a:ext cx="8546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ля свободной энерги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</a:rPr>
              <a:t>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тся сумма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132000" y="1773360"/>
                <a:ext cx="29559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 l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-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ℏ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4006800" y="2851560"/>
            <a:ext cx="746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.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700360" y="3500280"/>
                <a:ext cx="3674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ол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α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-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ℏ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2121840" y="4217400"/>
            <a:ext cx="113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7928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нормальных колебаний дает в своем классическом предельном случае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&gt;&gt;ħ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вклад в теплоемкость, равны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кол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 1 пр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ем наибольшего из ħ</a:t>
            </a:r>
            <a:r>
              <a:rPr b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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, получилось бы  скол 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 . Фактически, однако, этот предел не достигается, так как много­атомные молекулы обычно распадаются при значительно более низких температу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ая энерги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лекулы есть сумма потенциальной и кинетической энергий. Последняя является квадратичной функцией от всех импульсов, число которых равно полному числу 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­пеней свободы молекулы. Поэтому энергия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меет ви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90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квадратичная функция импульсов и координ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2554200" y="3429000"/>
                <a:ext cx="3963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интегрирование производится по фазовому пространству молек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540440" y="260280"/>
            <a:ext cx="67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ставляя это выражение для энергии в форму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484360" y="907920"/>
                <a:ext cx="5249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dτ</m:t>
                        </m:r>
                        <m:r>
                          <m:t xml:space="preserve">,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720" y="3486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5280" y="3572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547640" y="4221000"/>
                <a:ext cx="5904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-2160" y="905760"/>
            <a:ext cx="87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ывая также, что интегрирование по координа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 инерции молекулы 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нимаемый газом объе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м в результате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й энергии выражение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11280" y="3429000"/>
                <a:ext cx="4608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940360" y="40046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постоянная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b7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4360" y="47520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я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572000" y="404640"/>
                <a:ext cx="4321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T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324000" y="1223280"/>
            <a:ext cx="8064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энергии, найдем, что функц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связана с теплоемкостью 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средств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’’(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тегрируя это соотношение,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340000" y="2421000"/>
                <a:ext cx="4103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ς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2771640" y="3040560"/>
            <a:ext cx="6161400" cy="6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янные. Подставляя  это выражение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556000" y="3429000"/>
                <a:ext cx="4176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83520" y="4349520"/>
            <a:ext cx="878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для свободной энергии следующее окончательное выра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042920" y="5013360"/>
                <a:ext cx="70200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ζ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140400" y="488700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7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283840" y="25956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крывая   логарифм в выра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924360" y="4581360"/>
                <a:ext cx="11523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190600" y="2108160"/>
            <a:ext cx="49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 получим в точности выражение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52760" y="3979800"/>
            <a:ext cx="46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постоянной теплоемкостью, ра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0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916360" y="907920"/>
                <a:ext cx="3240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3" name=""/>
          <p:cNvSpPr/>
          <p:nvPr/>
        </p:nvSpPr>
        <p:spPr>
          <a:xfrm>
            <a:off x="720" y="350136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050920" y="2924280"/>
                <a:ext cx="5256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Nζ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720" y="348696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46160" y="5918760"/>
            <a:ext cx="721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чисто классический идеальный газ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ть постоянной теплоемк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Вращательная теплоемкость многоатомных газов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9640" y="429012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большой величине мо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ерции многоатомных молеку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соответственно малости их вращательных ква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вращение можно всегда рассматривать классиче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5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55640" y="684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для вращательной теплоемкости име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3492360" y="1773360"/>
                <a:ext cx="21272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4368600" y="3572640"/>
            <a:ext cx="320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химическая постоя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788000" y="4653000"/>
                <a:ext cx="26636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р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π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σ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1783440" y="4150440"/>
            <a:ext cx="204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5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125800" y="333720"/>
            <a:ext cx="4833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лебания молеку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32000" y="2203920"/>
            <a:ext cx="68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ебательная часть термодинамических величин газа становится существенной при значительно более высоких температурах, чем вращательная, потому что интервалы колебательной структуры термов велики по сравнению с интервалами вращательной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3:34:27Z</dcterms:created>
  <dc:creator>Чеклина Ада Ивановна</dc:creator>
  <dc:description/>
  <dc:language>en-US</dc:language>
  <cp:lastModifiedBy>Чеклина Ада Ивановна</cp:lastModifiedBy>
  <dcterms:modified xsi:type="dcterms:W3CDTF">2004-05-06T15:43:40Z</dcterms:modified>
  <cp:revision>8</cp:revision>
  <dc:subject/>
  <dc:title>Молекула представляет собой конфигурацию атомов, совершающих малые колебания около определенных положении равно­весия, соответствующих минимуму потенциальной энергии их взаимодействия. Последняя имеет при этом вид </dc:title>
</cp:coreProperties>
</file>